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1254F-22B8-44CA-A723-886098C5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A941F-87F6-4469-B4E7-05B3BBA0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EE3E1-2521-4D55-B69B-58FE6082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07510-7797-40E3-A38F-89F87B7F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1A23-9A43-49FB-A3C4-11D7878D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3B81-1E37-4396-9A48-D033B28D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AC9B-B1A5-4982-AFC7-43C3154A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B576-22DD-4F96-9534-8C1992E6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3362-6A9A-4D36-9617-DC164839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71B4-2195-47E4-811B-D6C72895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0F8D-314D-4CFF-B0DF-BE0E3934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0B2A6-7278-4FF0-9536-B7205703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3928-1F1D-4C37-9A99-3EC4B83F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1FDB-0B45-4AE9-B6C8-00CBD1D1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0A9A-0AE3-4BA9-8A36-4532AE20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DB90-5E83-4485-AA2E-4E29F799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2AA0-AF1B-4106-B3C1-D20399AC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E0B90-1D3A-489F-B3D4-CF0DD352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1EF7C-1BE3-42C5-8F9D-FA9E00B6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BB129-F878-48CA-BBAB-CE9DFB49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204EC-45A5-4E1F-AA34-9308454A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662E4-D1CF-4834-B2F8-1137D7FB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F946C-56F4-40EA-BFA5-4240B95C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F1C2B-FDBC-47AB-9AE7-58E8534D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7895-17AD-4644-8EFB-929CABED82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13DC-2A61-4A8C-859D-FC5468427D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4947-1E09-4B1B-8DFF-E226771BF4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3999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xample 2.1 p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ive the number of protons, neutrons, and electrons in each of the following spec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3357720"/>
          <a:ext cx="8820360" cy="3120840"/>
        </p:xfrm>
        <a:graphic>
          <a:graphicData uri="http://schemas.openxmlformats.org/drawingml/2006/table">
            <a:tbl>
              <a:tblPr/>
              <a:tblGrid>
                <a:gridCol w="1764000"/>
                <a:gridCol w="1620720"/>
                <a:gridCol w="1800000"/>
                <a:gridCol w="1513080"/>
                <a:gridCol w="212256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Atomic number (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elec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mass number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–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20 – 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95280" y="4797360"/>
                <a:ext cx="13194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258920" y="197640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72F85-833E-4FFA-AA72-F395A15197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42920" y="62064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rot="5400000">
            <a:off x="2915640" y="1052280"/>
            <a:ext cx="503280" cy="2087640"/>
          </a:xfrm>
          <a:custGeom>
            <a:avLst/>
            <a:gdLst>
              <a:gd name="textAreaLeft" fmla="*/ 0 w 503280"/>
              <a:gd name="textAreaRight" fmla="*/ 181800 w 503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2346480"/>
            <a:ext cx="41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otopes of So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9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443700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ractice Exercise p5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protons, neutrons, and electrons are in the following isotope of copper: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63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can I get the atomic number: look at the periodic table →           then find the number of p, n &amp; e.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132000" y="5950080"/>
                <a:ext cx="1008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B9B65-9A36-4F91-9A97-6AEDCBB65B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404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4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080" y="1041480"/>
            <a:ext cx="8675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periodic Tab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chart in which elements having similar chemical and physical properties are group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lements in the modern periodic table are arranged by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24360" y="3173400"/>
            <a:ext cx="5580000" cy="3640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8360" y="3132000"/>
            <a:ext cx="1800000" cy="13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AC935-204B-47F1-A911-4960DB5576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4"/>
          <p:cNvGrpSpPr/>
          <p:nvPr/>
        </p:nvGrpSpPr>
        <p:grpSpPr>
          <a:xfrm>
            <a:off x="1789200" y="2984400"/>
            <a:ext cx="2448000" cy="402840"/>
            <a:chOff x="1789200" y="2984400"/>
            <a:chExt cx="2448000" cy="402840"/>
          </a:xfrm>
        </p:grpSpPr>
        <p:sp>
          <p:nvSpPr>
            <p:cNvPr id="184" name="Text Box 4"/>
            <p:cNvSpPr/>
            <p:nvPr/>
          </p:nvSpPr>
          <p:spPr>
            <a:xfrm>
              <a:off x="2464560" y="2984400"/>
              <a:ext cx="1026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3399120" y="318744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>
              <a:off x="1789200" y="318744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9"/>
          <p:cNvGrpSpPr/>
          <p:nvPr/>
        </p:nvGrpSpPr>
        <p:grpSpPr>
          <a:xfrm>
            <a:off x="6653520" y="1619280"/>
            <a:ext cx="402840" cy="2419200"/>
            <a:chOff x="6653520" y="1619280"/>
            <a:chExt cx="402840" cy="2419200"/>
          </a:xfrm>
        </p:grpSpPr>
        <p:sp>
          <p:nvSpPr>
            <p:cNvPr id="188" name="Text Box 16"/>
            <p:cNvSpPr/>
            <p:nvPr/>
          </p:nvSpPr>
          <p:spPr>
            <a:xfrm rot="5400000">
              <a:off x="6354000" y="2545920"/>
              <a:ext cx="10018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7"/>
            <p:cNvSpPr/>
            <p:nvPr/>
          </p:nvSpPr>
          <p:spPr>
            <a:xfrm>
              <a:off x="6856560" y="32004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6856560" y="1619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4"/>
          <p:cNvGrpSpPr/>
          <p:nvPr/>
        </p:nvGrpSpPr>
        <p:grpSpPr>
          <a:xfrm>
            <a:off x="57600" y="1185840"/>
            <a:ext cx="402840" cy="3171960"/>
            <a:chOff x="57600" y="1185840"/>
            <a:chExt cx="402840" cy="3171960"/>
          </a:xfrm>
        </p:grpSpPr>
        <p:sp>
          <p:nvSpPr>
            <p:cNvPr id="192" name="Text Box 21"/>
            <p:cNvSpPr/>
            <p:nvPr/>
          </p:nvSpPr>
          <p:spPr>
            <a:xfrm rot="5400000">
              <a:off x="-613800" y="2561760"/>
              <a:ext cx="1745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263880" y="35197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263880" y="1185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9"/>
          <p:cNvGrpSpPr/>
          <p:nvPr/>
        </p:nvGrpSpPr>
        <p:grpSpPr>
          <a:xfrm>
            <a:off x="8669520" y="1295280"/>
            <a:ext cx="402840" cy="2928960"/>
            <a:chOff x="8669520" y="1295280"/>
            <a:chExt cx="402840" cy="2928960"/>
          </a:xfrm>
        </p:grpSpPr>
        <p:sp>
          <p:nvSpPr>
            <p:cNvPr id="196" name="Text Box 26"/>
            <p:cNvSpPr/>
            <p:nvPr/>
          </p:nvSpPr>
          <p:spPr>
            <a:xfrm rot="5400000">
              <a:off x="8087760" y="2535840"/>
              <a:ext cx="15660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>
              <a:off x="8874000" y="338580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8874000" y="1295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34"/>
          <p:cNvGrpSpPr/>
          <p:nvPr/>
        </p:nvGrpSpPr>
        <p:grpSpPr>
          <a:xfrm>
            <a:off x="8160120" y="1671480"/>
            <a:ext cx="402840" cy="2671920"/>
            <a:chOff x="8160120" y="1671480"/>
            <a:chExt cx="402840" cy="2671920"/>
          </a:xfrm>
        </p:grpSpPr>
        <p:sp>
          <p:nvSpPr>
            <p:cNvPr id="200" name="Text Box 31"/>
            <p:cNvSpPr/>
            <p:nvPr/>
          </p:nvSpPr>
          <p:spPr>
            <a:xfrm rot="5400000">
              <a:off x="7711200" y="2755440"/>
              <a:ext cx="13006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2"/>
            <p:cNvSpPr/>
            <p:nvPr/>
          </p:nvSpPr>
          <p:spPr>
            <a:xfrm>
              <a:off x="8366040" y="35053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3"/>
            <p:cNvSpPr/>
            <p:nvPr/>
          </p:nvSpPr>
          <p:spPr>
            <a:xfrm>
              <a:off x="8366040" y="16714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9"/>
          <p:cNvGrpSpPr/>
          <p:nvPr/>
        </p:nvGrpSpPr>
        <p:grpSpPr>
          <a:xfrm>
            <a:off x="598680" y="760320"/>
            <a:ext cx="402840" cy="3978360"/>
            <a:chOff x="598680" y="760320"/>
            <a:chExt cx="402840" cy="3978360"/>
          </a:xfrm>
        </p:grpSpPr>
        <p:sp>
          <p:nvSpPr>
            <p:cNvPr id="204" name="Text Box 36"/>
            <p:cNvSpPr/>
            <p:nvPr/>
          </p:nvSpPr>
          <p:spPr>
            <a:xfrm rot="5400000">
              <a:off x="-494640" y="2586600"/>
              <a:ext cx="25898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7"/>
            <p:cNvSpPr/>
            <p:nvPr/>
          </p:nvSpPr>
          <p:spPr>
            <a:xfrm>
              <a:off x="80316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8"/>
            <p:cNvSpPr/>
            <p:nvPr/>
          </p:nvSpPr>
          <p:spPr>
            <a:xfrm>
              <a:off x="80316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1C18E-9193-4215-8080-7930187497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are arranged by atomic number (Z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eriod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horizontal r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7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roup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vertical rows, elements in the same group have similar chemical and phys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8 groups, assigned as 1A-to-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so 8 groups are assigned as 1B-to-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groups are given special nam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groups 1B-to-8B are called the </a:t>
            </a:r>
            <a:r>
              <a:rPr b="1" lang="en-GB" sz="2000" spc="-1" strike="noStrike">
                <a:solidFill>
                  <a:srgbClr val="9900cc"/>
                </a:solidFill>
                <a:latin typeface="Comic Sans MS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Group 1A elements (Li, Na, K, Rb, Cs and Fr) are called </a:t>
            </a:r>
            <a:r>
              <a:rPr b="1" lang="en-GB" sz="2000" spc="-1" strike="noStrike">
                <a:solidFill>
                  <a:srgbClr val="a50021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roup 2A elements (Be, Mg, Ca, Sr, Ba and Ra) are called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Alkaline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Group 7A elements (F, Cl, Br, I and At) are as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99ff"/>
                </a:solidFill>
                <a:latin typeface="Comic Sans MS"/>
              </a:rPr>
              <a:t>Group 8A elements (He, Ne, Ar, Kr, Xe and Rn) are called </a:t>
            </a:r>
            <a:r>
              <a:rPr b="1" lang="en-GB" sz="2000" spc="-1" strike="noStrike">
                <a:solidFill>
                  <a:srgbClr val="9999ff"/>
                </a:solidFill>
                <a:latin typeface="Comic Sans MS"/>
              </a:rPr>
              <a:t>Noble Gases or Rare g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7988F-D903-4BA4-8A60-5C5779A60A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lements in the periodic table are divided into three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green colour, Most elements) is a good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n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lue colour, 17 elements) is a poor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loi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rown colour, 8 elements) has properties that are intermediate between those of metals and nonme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1F51D-2502-43B5-BB9A-C189587B7E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elements is most likely to be a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conductor of electricity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4bacc6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element is the 15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element in period  #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AF331-28E5-43CE-AFB9-0CCC091F2F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12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24000" y="1268280"/>
            <a:ext cx="79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molec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aggregate of two or more atoms in a definite arrangement held together by chemical forces, a molecule may contain atoms of the same element or atoms of two or mor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1476360" y="3573360"/>
            <a:ext cx="6116760" cy="1796040"/>
            <a:chOff x="1476360" y="3573360"/>
            <a:chExt cx="6116760" cy="1796040"/>
          </a:xfrm>
        </p:grpSpPr>
        <p:pic>
          <p:nvPicPr>
            <p:cNvPr id="213" name="Picture 3" descr="C:\Chang Powerpoint\Figures\f002_12.jpg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476360" y="357336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4"/>
            <p:cNvSpPr/>
            <p:nvPr/>
          </p:nvSpPr>
          <p:spPr>
            <a:xfrm>
              <a:off x="1733400" y="485928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"/>
            <p:cNvSpPr/>
            <p:nvPr/>
          </p:nvSpPr>
          <p:spPr>
            <a:xfrm>
              <a:off x="3145680" y="4859280"/>
              <a:ext cx="744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939560" y="4859280"/>
              <a:ext cx="73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7"/>
            <p:cNvSpPr/>
            <p:nvPr/>
          </p:nvSpPr>
          <p:spPr>
            <a:xfrm>
              <a:off x="6516000" y="4859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CD1EB-A624-411B-A752-A5D2A9B7A6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79280" y="2708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Diatomic molecule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52080" y="4292640"/>
            <a:ext cx="333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Br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859280" y="2703600"/>
            <a:ext cx="42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olyatomic molecule: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450760" y="4221000"/>
            <a:ext cx="264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, N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C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1268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3959280" y="-107136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41771-1DEE-42A6-B2F1-F2A8D501C8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 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n atom or a group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 has a net positive (+ve) or negative (-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79280" y="37638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tion: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an ion with a +ve charge (lose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54520" y="61405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Mg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4859280" y="3759120"/>
            <a:ext cx="42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nion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n ion with a -ve charge ( Gain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4360" y="23241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3959280" y="-1548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94400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530064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no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530064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oly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651744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97440" y="5299200"/>
            <a:ext cx="197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 Br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S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5235480"/>
            <a:ext cx="1908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ly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H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,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134880" y="6140520"/>
            <a:ext cx="83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1D0F9-9890-4004-8D9B-2CE78756D3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921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49-6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71-7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2.10, 2.11, 2.12, 2.14, 2.16, 2.18, 2.26, 2.34, 2.36, 2.44, 2.46, 2.50, 2.57 (a,e,f,g,h,I,j,k,l,m), 2.58 (b,c,d,g,h,I,k), 2.59 (a,b,d,g,h,j), 2.60 (a,e,f,g,h,k),2.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NA00119_"/>
          <p:cNvPicPr/>
          <p:nvPr/>
        </p:nvPicPr>
        <p:blipFill>
          <a:blip r:embed="rId1"/>
          <a:stretch/>
        </p:blipFill>
        <p:spPr>
          <a:xfrm>
            <a:off x="0" y="576360"/>
            <a:ext cx="1627200" cy="162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NA00121_"/>
          <p:cNvPicPr/>
          <p:nvPr/>
        </p:nvPicPr>
        <p:blipFill>
          <a:blip r:embed="rId2"/>
          <a:stretch/>
        </p:blipFill>
        <p:spPr>
          <a:xfrm>
            <a:off x="7380360" y="5746680"/>
            <a:ext cx="1763640" cy="11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0C069-9D68-4833-9324-845B3E2AFE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7"/>
          <p:cNvGrpSpPr/>
          <p:nvPr/>
        </p:nvGrpSpPr>
        <p:grpSpPr>
          <a:xfrm>
            <a:off x="974880" y="1476360"/>
            <a:ext cx="3167640" cy="1295280"/>
            <a:chOff x="974880" y="1476360"/>
            <a:chExt cx="3167640" cy="1295280"/>
          </a:xfrm>
        </p:grpSpPr>
        <p:grpSp>
          <p:nvGrpSpPr>
            <p:cNvPr id="241" name="Group 10"/>
            <p:cNvGrpSpPr/>
            <p:nvPr/>
          </p:nvGrpSpPr>
          <p:grpSpPr>
            <a:xfrm>
              <a:off x="974880" y="1476360"/>
              <a:ext cx="1295280" cy="1295280"/>
              <a:chOff x="974880" y="1476360"/>
              <a:chExt cx="1295280" cy="1295280"/>
            </a:xfrm>
          </p:grpSpPr>
          <p:sp>
            <p:nvSpPr>
              <p:cNvPr id="242" name="Oval 6"/>
              <p:cNvSpPr/>
              <p:nvPr/>
            </p:nvSpPr>
            <p:spPr>
              <a:xfrm>
                <a:off x="974880" y="147636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7"/>
              <p:cNvSpPr/>
              <p:nvPr/>
            </p:nvSpPr>
            <p:spPr>
              <a:xfrm>
                <a:off x="1270440" y="1863720"/>
                <a:ext cx="884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20"/>
            <p:cNvSpPr/>
            <p:nvPr/>
          </p:nvSpPr>
          <p:spPr>
            <a:xfrm>
              <a:off x="2500200" y="17730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8"/>
          <p:cNvGrpSpPr/>
          <p:nvPr/>
        </p:nvGrpSpPr>
        <p:grpSpPr>
          <a:xfrm>
            <a:off x="5508720" y="1628640"/>
            <a:ext cx="2970360" cy="1143000"/>
            <a:chOff x="5508720" y="1628640"/>
            <a:chExt cx="2970360" cy="1143000"/>
          </a:xfrm>
        </p:grpSpPr>
        <p:grpSp>
          <p:nvGrpSpPr>
            <p:cNvPr id="246" name="Group 11"/>
            <p:cNvGrpSpPr/>
            <p:nvPr/>
          </p:nvGrpSpPr>
          <p:grpSpPr>
            <a:xfrm>
              <a:off x="5508720" y="1628640"/>
              <a:ext cx="1201320" cy="1143000"/>
              <a:chOff x="5508720" y="1628640"/>
              <a:chExt cx="1201320" cy="1143000"/>
            </a:xfrm>
          </p:grpSpPr>
          <p:sp>
            <p:nvSpPr>
              <p:cNvPr id="247" name="Oval 8"/>
              <p:cNvSpPr/>
              <p:nvPr/>
            </p:nvSpPr>
            <p:spPr>
              <a:xfrm>
                <a:off x="5508720" y="1628640"/>
                <a:ext cx="114264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9"/>
              <p:cNvSpPr/>
              <p:nvPr/>
            </p:nvSpPr>
            <p:spPr>
              <a:xfrm>
                <a:off x="5689440" y="1941480"/>
                <a:ext cx="102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Text Box 21"/>
            <p:cNvSpPr/>
            <p:nvPr/>
          </p:nvSpPr>
          <p:spPr>
            <a:xfrm>
              <a:off x="6836760" y="18414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9"/>
          <p:cNvGrpSpPr/>
          <p:nvPr/>
        </p:nvGrpSpPr>
        <p:grpSpPr>
          <a:xfrm>
            <a:off x="1042920" y="4013280"/>
            <a:ext cx="3111840" cy="1143000"/>
            <a:chOff x="1042920" y="4013280"/>
            <a:chExt cx="3111840" cy="1143000"/>
          </a:xfrm>
        </p:grpSpPr>
        <p:grpSp>
          <p:nvGrpSpPr>
            <p:cNvPr id="251" name="Group 23"/>
            <p:cNvGrpSpPr/>
            <p:nvPr/>
          </p:nvGrpSpPr>
          <p:grpSpPr>
            <a:xfrm>
              <a:off x="1042920" y="4013280"/>
              <a:ext cx="1143000" cy="1143000"/>
              <a:chOff x="1042920" y="4013280"/>
              <a:chExt cx="1143000" cy="1143000"/>
            </a:xfrm>
          </p:grpSpPr>
          <p:sp>
            <p:nvSpPr>
              <p:cNvPr id="252" name="Oval 14"/>
              <p:cNvSpPr/>
              <p:nvPr/>
            </p:nvSpPr>
            <p:spPr>
              <a:xfrm>
                <a:off x="1042920" y="401328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5"/>
              <p:cNvSpPr/>
              <p:nvPr/>
            </p:nvSpPr>
            <p:spPr>
              <a:xfrm>
                <a:off x="1357560" y="4324680"/>
                <a:ext cx="7581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Text Box 22"/>
            <p:cNvSpPr/>
            <p:nvPr/>
          </p:nvSpPr>
          <p:spPr>
            <a:xfrm>
              <a:off x="2512440" y="423396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0"/>
          <p:cNvGrpSpPr/>
          <p:nvPr/>
        </p:nvGrpSpPr>
        <p:grpSpPr>
          <a:xfrm>
            <a:off x="5348160" y="3860640"/>
            <a:ext cx="3123000" cy="1447560"/>
            <a:chOff x="5348160" y="3860640"/>
            <a:chExt cx="3123000" cy="1447560"/>
          </a:xfrm>
        </p:grpSpPr>
        <p:grpSp>
          <p:nvGrpSpPr>
            <p:cNvPr id="256" name="Group 24"/>
            <p:cNvGrpSpPr/>
            <p:nvPr/>
          </p:nvGrpSpPr>
          <p:grpSpPr>
            <a:xfrm>
              <a:off x="5348160" y="3860640"/>
              <a:ext cx="1447920" cy="1447560"/>
              <a:chOff x="5348160" y="3860640"/>
              <a:chExt cx="1447920" cy="1447560"/>
            </a:xfrm>
          </p:grpSpPr>
          <p:sp>
            <p:nvSpPr>
              <p:cNvPr id="257" name="Oval 18"/>
              <p:cNvSpPr/>
              <p:nvPr/>
            </p:nvSpPr>
            <p:spPr>
              <a:xfrm>
                <a:off x="5348160" y="386064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9"/>
              <p:cNvSpPr/>
              <p:nvPr/>
            </p:nvSpPr>
            <p:spPr>
              <a:xfrm>
                <a:off x="5787720" y="4400280"/>
                <a:ext cx="8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26"/>
            <p:cNvSpPr/>
            <p:nvPr/>
          </p:nvSpPr>
          <p:spPr>
            <a:xfrm>
              <a:off x="6828840" y="422568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256360" y="907920"/>
            <a:ext cx="18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3213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2AE43-AB87-4ABC-B029-276DE4BFC0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468360" y="470520"/>
            <a:ext cx="86043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magnesium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, has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3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6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2 protons and 10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2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4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468360" y="3113640"/>
            <a:ext cx="70279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sulfide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 , has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4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6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833EB-9CEF-43F3-9DFA-DD080E618F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5280" y="61920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7020000" y="692280"/>
                <a:ext cx="1871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71484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093080" y="3789360"/>
                <a:ext cx="17287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92D7A-3CA6-4161-B108-030BC8FCF6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6 Chem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476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1. A molecular formula: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ows the exact number of atoms of each element in the smallest unit of a sub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,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89E00-356B-4116-9849-69700DBBD6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747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2. An empirical formula: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the simplest whole-number ratio of the atoms in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 may the same or different from 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can we get the Empirical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vi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numbers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devi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1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divide the numbers 6, 12 and 6 by the largest common devisor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1BE38-CF13-4FA1-B062-BEE98E2CC9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7"/>
          <p:cNvSpPr/>
          <p:nvPr/>
        </p:nvSpPr>
        <p:spPr>
          <a:xfrm>
            <a:off x="5328720" y="1268280"/>
            <a:ext cx="1218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1608840" y="476280"/>
            <a:ext cx="5923800" cy="1437840"/>
            <a:chOff x="1608840" y="476280"/>
            <a:chExt cx="5923800" cy="1437840"/>
          </a:xfrm>
        </p:grpSpPr>
        <p:sp>
          <p:nvSpPr>
            <p:cNvPr id="275" name="Text Box 6"/>
            <p:cNvSpPr/>
            <p:nvPr/>
          </p:nvSpPr>
          <p:spPr>
            <a:xfrm>
              <a:off x="2302920" y="1057320"/>
              <a:ext cx="12182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H</a:t>
              </a:r>
              <a:r>
                <a:rPr b="0" lang="en-US" sz="4400" spc="-1" strike="noStrike" baseline="-25000">
                  <a:solidFill>
                    <a:srgbClr val="a50021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1608840" y="476280"/>
              <a:ext cx="299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molecula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4726080" y="476280"/>
              <a:ext cx="280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9900cc"/>
                  </a:solidFill>
                  <a:uFillTx/>
                  <a:latin typeface="Comic Sans MS"/>
                </a:rPr>
                <a:t>empirica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10"/>
          <p:cNvSpPr/>
          <p:nvPr/>
        </p:nvSpPr>
        <p:spPr>
          <a:xfrm>
            <a:off x="1991880" y="2708280"/>
            <a:ext cx="2129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5191560" y="2708280"/>
            <a:ext cx="1572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C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2424600" y="3890880"/>
            <a:ext cx="803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5497200" y="38908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270160" y="5043600"/>
            <a:ext cx="13917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5342760" y="5043600"/>
            <a:ext cx="12063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76B7F-4F41-4FE1-8511-9C77263CA0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xample 2.3 p5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Write the empirical formulas 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llowing molec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cetylene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itrous oxide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 →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ractice Exercise: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120E4-3AA4-4697-A543-2EF8EE7626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08000" y="475920"/>
            <a:ext cx="9036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3. Formula of Ionic Compounds: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أيونية</a:t>
            </a: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28600" y="128736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Compoun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ist of a combination of cations and an an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84360" y="256536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4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Cl</a:t>
            </a:r>
            <a:r>
              <a:rPr b="0" lang="en-GB" sz="48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95640" y="334152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29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03640" y="346716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818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4EF7C-85F5-410B-B5F5-B35B682612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Chang Powerpoint\Figures\f002_13l.jpg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1822320"/>
            <a:ext cx="8128080" cy="30783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"/>
          <p:cNvSpPr/>
          <p:nvPr/>
        </p:nvSpPr>
        <p:spPr>
          <a:xfrm>
            <a:off x="2354040" y="1341360"/>
            <a:ext cx="44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191C9-BA8A-44C5-A865-C41D23B49FD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m of the charges on the cation/s and anion/s in each formula unit must equal zer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formula of the ionic compound must be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to make the formula neut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subscript of the cation is numer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qual to the charge on the anion,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script on the anion is numerically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the charge on the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6720" y="546732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028ED-B6A5-45A0-81D0-FCD6CC2161C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 Atoms, Molecules and Ions: Outl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3 Atomic Number, Mass Number and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5 Molecules and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6 Chem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7 Naming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cular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B9A73-8D90-4770-8EDE-AE4A451AAA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2784960" y="1197000"/>
            <a:ext cx="344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Br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796200" y="4724280"/>
            <a:ext cx="223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B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assium 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1140A-7DC7-4C2C-B6C2-1E4D042005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3"/>
          <p:cNvSpPr/>
          <p:nvPr/>
        </p:nvSpPr>
        <p:spPr>
          <a:xfrm>
            <a:off x="2508840" y="1197000"/>
            <a:ext cx="399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GB" sz="6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1700280"/>
            <a:ext cx="280836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352320" y="4724280"/>
            <a:ext cx="3120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08360" y="1844640"/>
            <a:ext cx="2303640" cy="7444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inc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6AE2B-7DC0-4B43-BC06-AE335037D5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2535480" y="1197000"/>
            <a:ext cx="39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349800" y="4724280"/>
            <a:ext cx="312516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ar-SA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uminium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7507A-0725-43E5-AB96-F3531101271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2144520" y="1197000"/>
            <a:ext cx="47311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00360" y="1773360"/>
            <a:ext cx="417672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2384640" y="4724280"/>
            <a:ext cx="50652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(S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9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0" lang="en-GB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2060640"/>
            <a:ext cx="3240000" cy="79200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romium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24720" y="263700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002F-A496-4013-909B-6732B36009A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55836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Example 2.4 p5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rite the formula of magnesium nit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ontaining the 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3-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83720" y="35719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73320" y="3932280"/>
            <a:ext cx="1871640" cy="1584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3635280" y="4220640"/>
            <a:ext cx="433080" cy="1008000"/>
          </a:xfrm>
          <a:prstGeom prst="downArrow">
            <a:avLst>
              <a:gd name="adj1" fmla="val 50000"/>
              <a:gd name="adj2" fmla="val 5818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537080" y="4221000"/>
            <a:ext cx="2200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GB" sz="54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GB" sz="5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15880" y="4005360"/>
            <a:ext cx="1441800" cy="9586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7640" y="558972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94A71-28D1-4C2F-A2A1-CDA4FD89405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7 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nomenclatur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naming the chemica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4000" y="2637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4139280" y="547920"/>
            <a:ext cx="649080" cy="6121440"/>
          </a:xfrm>
          <a:custGeom>
            <a:avLst/>
            <a:gdLst>
              <a:gd name="textAreaLeft" fmla="*/ 0 w 649080"/>
              <a:gd name="textAreaRight" fmla="*/ 234360 w 649080"/>
              <a:gd name="textAreaTop" fmla="*/ 159480 h 6121440"/>
              <a:gd name="textAreaBottom" fmla="*/ 5961960 h 612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280" y="407664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Organic Compound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contain carbon in combination with elements such as hydrogen,  oxygen, nitrogen and 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08720" y="407664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Inorganic Compound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ll othe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950080"/>
            <a:ext cx="8820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lso Inorganic compounds: CO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mpounds containing CN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&amp; H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E1EF3-03C7-49D3-9886-566B9E2CECE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74281-665E-4EB4-90FF-847B70EB718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CF24E-8B23-463E-85FD-BE1AF85A877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3887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6320" y="4724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st reactive </a:t>
            </a:r>
            <a:r>
              <a:rPr b="1" lang="en-US" sz="2800" spc="-1" strike="noStrike">
                <a:solidFill>
                  <a:srgbClr val="00cc66"/>
                </a:solidFill>
                <a:latin typeface="Comic Sans MS"/>
              </a:rPr>
              <a:t>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green) and the most reactive </a:t>
            </a: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non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blue) combine to form ionic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04680" y="528480"/>
            <a:ext cx="35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8116C-D3F6-44FE-8002-CEBCF32C5FB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24000" y="47304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 form an ionic compound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and B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 and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aae2ca"/>
                </a:solidFill>
                <a:latin typeface="Comic Sans MS"/>
              </a:rPr>
              <a:t>O and 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and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3284640"/>
            <a:ext cx="8569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form a molecular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a and Br            (b) </a:t>
            </a:r>
            <a:r>
              <a:rPr b="0" lang="en-GB" sz="2400" spc="-1" strike="noStrike">
                <a:solidFill>
                  <a:srgbClr val="aae2ca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 and O             (d) Zn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g and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B08ED-CCFD-45F6-9185-54A9D215A23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toms, Molecules and Ions: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31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basic unit of an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n enter into chemical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Electron (e) (-ve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oton (p) (+ve charg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Comic Sans MS"/>
              </a:rPr>
              <a:t>Neutron (n) (neut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3429000"/>
            <a:ext cx="503280" cy="1655640"/>
          </a:xfrm>
          <a:custGeom>
            <a:avLst/>
            <a:gdLst>
              <a:gd name="textAreaLeft" fmla="*/ 0 w 503280"/>
              <a:gd name="textAreaRight" fmla="*/ 181800 w 503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0360" y="380196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atomic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C23A-45D5-44B5-A8F2-2E50FDC637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2915280" y="908280"/>
            <a:ext cx="1152360" cy="5904000"/>
          </a:xfrm>
          <a:custGeom>
            <a:avLst/>
            <a:gdLst>
              <a:gd name="textAreaLeft" fmla="*/ 0 w 1152360"/>
              <a:gd name="textAreaRight" fmla="*/ 416160 w 1152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450360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etal Cation: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24360" y="443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Nonmetal Anion: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CBB5B-05E7-40FD-9479-30A324BEC81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68360" y="476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Metal Cation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3960000" y="-1648440"/>
            <a:ext cx="1008000" cy="7274160"/>
          </a:xfrm>
          <a:custGeom>
            <a:avLst/>
            <a:gdLst>
              <a:gd name="textAreaLeft" fmla="*/ 0 w 1008000"/>
              <a:gd name="textAreaRight" fmla="*/ 363960 w 1008000"/>
              <a:gd name="textAreaTop" fmla="*/ 189360 h 7274160"/>
              <a:gd name="textAreaBottom" fmla="*/ 7084800 h 727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2708280"/>
            <a:ext cx="439092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2565360"/>
            <a:ext cx="385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other metal cations e.g.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5746680"/>
            <a:ext cx="7705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ame of metal cation: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mmon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86EF8-196F-41D8-B47A-8E217836026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15238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692280"/>
            <a:ext cx="22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only type of 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03280" y="236700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1B81E-114C-4EB5-983F-62CF80A90BA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79280" y="1773360"/>
          <a:ext cx="8712360" cy="2735280"/>
        </p:xfrm>
        <a:graphic>
          <a:graphicData uri="http://schemas.openxmlformats.org/drawingml/2006/table">
            <a:tbl>
              <a:tblPr/>
              <a:tblGrid>
                <a:gridCol w="2521080"/>
                <a:gridCol w="619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 So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</a:t>
                      </a:r>
                      <a:r>
                        <a:rPr b="0" lang="en-GB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Sodium ion (or sodium cation</a:t>
                      </a:r>
                      <a:r>
                        <a:rPr b="0" lang="ar-SA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 potas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potassium ion (or potas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 magne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magnesium ion (or magne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 Alumin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3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aluminium ion (or alumin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9640" y="476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40FE2-E390-44F5-8FDB-0D395B2915F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50920" y="620640"/>
            <a:ext cx="84978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.g. Iron can form two cation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&amp;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00"/>
                </a:solidFill>
                <a:uFillTx/>
                <a:latin typeface="Comic Sans MS"/>
              </a:rPr>
              <a:t>Stock System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specify the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of the cation  with Roman num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e.g. 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451640" y="3357720"/>
          <a:ext cx="1657440" cy="3095640"/>
        </p:xfrm>
        <a:graphic>
          <a:graphicData uri="http://schemas.openxmlformats.org/drawingml/2006/table">
            <a:tbl>
              <a:tblPr/>
              <a:tblGrid>
                <a:gridCol w="748800"/>
                <a:gridCol w="908640"/>
              </a:tblGrid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w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h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7233840" y="2997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Roman num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213D5-D7B3-4CF4-BCB8-363C14446BA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836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Nonmetal Anion: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4031280" y="-639000"/>
            <a:ext cx="1079640" cy="547200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000"/>
              <a:gd name="textAreaBottom" fmla="*/ 5329440 h 54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2708280"/>
            <a:ext cx="45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Chlorine →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Bromine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Oxygen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50080" y="2708280"/>
            <a:ext cx="3878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ly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H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N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5229360"/>
            <a:ext cx="87487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33"/>
                </a:solidFill>
                <a:uFillTx/>
                <a:latin typeface="Comic Sans MS"/>
              </a:rPr>
              <a:t>Common names for some anions: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Carbonate    P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Phosphate  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H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Bicarbonate       N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Nitrate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78DC0-136D-475B-B811-E09C262CE91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9" descr="02_02"/>
          <p:cNvPicPr/>
          <p:nvPr/>
        </p:nvPicPr>
        <p:blipFill>
          <a:blip r:embed="rId1"/>
          <a:srcRect l="0" t="5392" r="0" b="0"/>
          <a:stretch/>
        </p:blipFill>
        <p:spPr>
          <a:xfrm>
            <a:off x="360360" y="1905120"/>
            <a:ext cx="8388360" cy="2965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539640" y="620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768E7-E202-4EF5-917E-635155FF736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02_03"/>
          <p:cNvPicPr/>
          <p:nvPr/>
        </p:nvPicPr>
        <p:blipFill>
          <a:blip r:embed="rId1"/>
          <a:srcRect l="0" t="2224" r="0" b="2126"/>
          <a:stretch/>
        </p:blipFill>
        <p:spPr>
          <a:xfrm>
            <a:off x="1577880" y="0"/>
            <a:ext cx="5988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7A52-0B2C-4692-BC31-080632EA524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5 p6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a) Cu(N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pper cation (can form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ypes of ca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ck system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pper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ion 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pper (II)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2000" y="3789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430D5-14B6-4277-B16F-F710E905264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b) KH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K form only one type of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tass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te: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not potassium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Potasium dihydro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E5910-27CB-4407-8532-41C33F5019C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02_01"/>
          <p:cNvPicPr/>
          <p:nvPr/>
        </p:nvPicPr>
        <p:blipFill>
          <a:blip r:embed="rId1"/>
          <a:srcRect l="0" t="5427" r="0" b="0"/>
          <a:stretch/>
        </p:blipFill>
        <p:spPr>
          <a:xfrm>
            <a:off x="287280" y="765000"/>
            <a:ext cx="8748720" cy="2935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324000" y="4365720"/>
            <a:ext cx="82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ass p = mass n = 1840 x mass e</a:t>
            </a:r>
            <a:r>
              <a:rPr b="0" lang="en-US" sz="3200" spc="-1" strike="noStrike" baseline="30000">
                <a:solidFill>
                  <a:srgbClr val="cc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2BAD8-F952-48E2-9378-8D6377EC1F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c) N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l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a common name ammon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mmonium 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E113A-9493-4ACA-B351-94897911940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6 p6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Mercury (I) nit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man number (I) shows that mercury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+1 charg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ite is a common name of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Hg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NO</a:t>
            </a:r>
            <a:r>
              <a:rPr b="0" lang="ar-SA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84A0B-7B97-4897-A27F-7C8DBED0F3C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79280" y="907920"/>
            <a:ext cx="8748720" cy="49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Mercury (Hg) is the only metal has this formula when it form cation with only one positive charg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Hg</a:t>
            </a:r>
            <a:r>
              <a:rPr b="0" lang="en-US" sz="36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2+</a:t>
            </a: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 NOT Hg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cation of two positive charges has the formula Hg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C80F4-20E8-4ABC-9A44-2A264B314E2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Cesium sulp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sium Cs is in group 1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lphide 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72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C9E7F-4D07-4B7C-AD13-AF41F212F04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(b) Calcium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ium Ca is in 2A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sphate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56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E613C-6368-4F75-8CA3-F77B229651B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4248000" y="-1143000"/>
            <a:ext cx="792000" cy="5472360"/>
          </a:xfrm>
          <a:custGeom>
            <a:avLst/>
            <a:gdLst>
              <a:gd name="textAreaLeft" fmla="*/ 0 w 792000"/>
              <a:gd name="textAreaRight" fmla="*/ 285840 w 79200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0" y="191628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Ionic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64000" y="191628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39C41-ED33-4CE2-912A-FD004F44912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41360" y="606600"/>
            <a:ext cx="8523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en-US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DDB8F-8941-44CF-9622-DAD097ACA08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39640" y="549360"/>
            <a:ext cx="82803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Place the name of the first element in the formula first, and the second element is named by adding –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63640" y="4054320"/>
          <a:ext cx="5832720" cy="2830680"/>
        </p:xfrm>
        <a:graphic>
          <a:graphicData uri="http://schemas.openxmlformats.org/drawingml/2006/table">
            <a:tbl>
              <a:tblPr/>
              <a:tblGrid>
                <a:gridCol w="1871640"/>
                <a:gridCol w="39610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chlo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bro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licone carb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77170-1D68-4A6E-8830-3C12CA3F3B9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68360" y="709560"/>
            <a:ext cx="78487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 the following cases: (one pair of elements form several different compou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CO           C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N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N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9A458-23E0-48BD-93A5-7F0E7281CD2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24000" y="415800"/>
            <a:ext cx="6480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lso by placing the name of the first element in the formula first, and the second element is named by ad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–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+ By using of Greek prefixes to denote the number of atoms of each elemen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7" descr="02_04"/>
          <p:cNvPicPr/>
          <p:nvPr/>
        </p:nvPicPr>
        <p:blipFill>
          <a:blip r:embed="rId1"/>
          <a:srcRect l="5021" t="2087" r="4800" b="2087"/>
          <a:stretch/>
        </p:blipFill>
        <p:spPr>
          <a:xfrm>
            <a:off x="6877080" y="476280"/>
            <a:ext cx="219384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A5F9C-8340-4868-A03D-5EBD482666B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685800" y="380880"/>
            <a:ext cx="79246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neutral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914400"/>
          <a:ext cx="6172200" cy="121932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Box 3"/>
          <p:cNvSpPr/>
          <p:nvPr/>
        </p:nvSpPr>
        <p:spPr>
          <a:xfrm>
            <a:off x="914400" y="223524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C. II and 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D. I and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27813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egatively charged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4400" y="3578400"/>
          <a:ext cx="6172200" cy="121896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Box 7"/>
          <p:cNvSpPr/>
          <p:nvPr/>
        </p:nvSpPr>
        <p:spPr>
          <a:xfrm>
            <a:off x="990720" y="486396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II and 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D. I and 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5373720"/>
            <a:ext cx="84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Atoms with th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same number of electrons and number of protons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are call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ons                                           B. isot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neutral atoms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. different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6C4A7-2C9E-4439-A1E9-3B988CB830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39640" y="549360"/>
            <a:ext cx="2087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826920" y="1805040"/>
          <a:ext cx="6193080" cy="4719600"/>
        </p:xfrm>
        <a:graphic>
          <a:graphicData uri="http://schemas.openxmlformats.org/drawingml/2006/table">
            <a:tbl>
              <a:tblPr/>
              <a:tblGrid>
                <a:gridCol w="1810080"/>
                <a:gridCol w="4383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onocarbon mono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→ </a:t>
                      </a: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arbon mon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O</a:t>
                      </a:r>
                      <a:r>
                        <a:rPr b="1" lang="en-US" sz="2800" spc="-1" strike="noStrike" baseline="-25000">
                          <a:solidFill>
                            <a:srgbClr val="9999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arbo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ulphur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ulphur tr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O</a:t>
                      </a:r>
                      <a:r>
                        <a:rPr b="1" lang="en-US" sz="2800" spc="-1" strike="noStrike" baseline="-25000">
                          <a:solidFill>
                            <a:srgbClr val="666633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itroge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Dinitrogen tet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"/>
          <p:cNvSpPr/>
          <p:nvPr/>
        </p:nvSpPr>
        <p:spPr>
          <a:xfrm>
            <a:off x="2484360" y="1844640"/>
            <a:ext cx="1150920" cy="432000"/>
          </a:xfrm>
          <a:prstGeom prst="wedgeRectCallout">
            <a:avLst>
              <a:gd name="adj1" fmla="val 4620"/>
              <a:gd name="adj2" fmla="val -120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50920" y="76500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te: Omitted if its in the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99120" y="1916280"/>
            <a:ext cx="20368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momo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72360" y="5508720"/>
            <a:ext cx="25207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aoxide </a:t>
            </a: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912EB-1249-40BD-9B31-7E4233BE050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7 p6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molecular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SiCl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e silicon atom &amp; four chlorine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Monosilicon tetrachloride (or o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mo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ilicon 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hlorid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0C695-AEB0-4E41-AAED-83C2D3714AD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P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r phosphourus atoms &amp; ten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phosphourus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ox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227640" y="3068640"/>
            <a:ext cx="2036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9838F-90D8-4D9D-85FA-AB90B7A6031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57200" y="433440"/>
            <a:ext cx="82296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xample 2.8 p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molecular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a) carbon di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one carbon atom &amp; two sulph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b) Disilicon hexa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two silicon atoms &amp; six bro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r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386064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8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4EA18-395B-4E9C-952E-426F44832B3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981000"/>
            <a:ext cx="914580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. Ion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Cation                                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2. Non-metal A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Take the name of the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Common metal NH</a:t>
            </a:r>
            <a:r>
              <a:rPr b="0" lang="en-US" sz="2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one type of cation (1A, 2A, Ag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, Zn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more than one type of cation (e.g..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&amp;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tock System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Roman numerals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(1 = I, 2 = II, 3 = III, 4 = IV, 5 =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3888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Naming Compound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14063-D91D-4F7E-8817-4231D8355E9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79280" y="981000"/>
            <a:ext cx="896472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Non-metal Anion                             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1. Metal 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ake the name of the element but change the last of the name to -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1. Common names, ClO</a:t>
            </a:r>
            <a:r>
              <a:rPr b="0" lang="en-GB" sz="20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 baseline="30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monoatomic non-metals, e.g. chlorine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3. Polyatoic non-metals, OH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yd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0DA92-8470-488C-B3FE-22F9052F887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79280" y="981000"/>
            <a:ext cx="896472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airs form one type of compound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2. Pairs form several type   of compounds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-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HCl Hydrogen chlo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00720" y="3141720"/>
            <a:ext cx="46432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–ide, &amp; use the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Greek prefixes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(mono- = 1, di- = 2 ……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CO carbon mon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CO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25144-B41A-408D-90CC-39E85E1A50E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611280" y="54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NH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NO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ammonium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um nitrogen tr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a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611280" y="378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PCl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phosphate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osphorus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loro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   monophosphate tetr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phosphorus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88764-D3AF-4193-A140-96A00B5ED46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4762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11280" y="379440"/>
            <a:ext cx="62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التكافؤ او عدد الاكسد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للعناصر الشهي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4383000"/>
            <a:ext cx="8964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1A (alkaline Metals): 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2A (alkaline Earth Metals): 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3A: 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5A: -3 (= 5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6A: -2 (= 6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7A (halogens): -1 (= 7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4160A-12F4-48CF-9A87-FE7B396FE32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1280" y="115920"/>
            <a:ext cx="8893440" cy="65786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979640" y="260280"/>
            <a:ext cx="36720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5D200-5388-4961-92C5-1B60BC82F0E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1706400"/>
            <a:ext cx="8991720" cy="51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tomic number: is the number of protons in the nucleus of each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ic number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 a neutral atom: Number of protons =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Mass number: is the total number of neutrons and protons present in the nucleus of an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ass number (A) = number of protons + number of neut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=  atomic number (Z) + number of neu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us: the number of neutrons = A -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040" y="40464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3 Atomic number, Mass number and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68CCD-6374-4082-AE8E-BBF9B70668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4920" y="423720"/>
            <a:ext cx="4968720" cy="69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9900cc"/>
                </a:solidFill>
                <a:uFillTx/>
                <a:latin typeface="Comic Sans MS"/>
              </a:rPr>
              <a:t>Problems: 2.57 &amp; 2.58 p73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me these compoun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P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B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L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24000" y="371520"/>
            <a:ext cx="7488360" cy="65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sodium 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hydrogen phosph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hydrogen brom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lithium carbo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di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ammonium nit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tri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penta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tetraphosphourus hexox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813A3-0A49-4656-8600-C87E8264A75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95280" y="-531720"/>
            <a:ext cx="4681440" cy="66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d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rS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l(OH)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Cl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56000" y="-544680"/>
            <a:ext cx="6443640" cy="76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cadmium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tront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alumin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odium carbon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I) ox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F70CE-82F1-4C2E-BA79-8897EB715CA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08000" y="549360"/>
            <a:ext cx="6335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Problem 2.59 &amp; 2.30 p7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Write the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Rubidium nit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agnesium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lcium 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di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odine heptaflou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56360" y="2421000"/>
            <a:ext cx="298764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RbN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aH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H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F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F940D-B2CB-4F12-B558-2F3ADF64E44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468360" y="549360"/>
            <a:ext cx="8675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mmon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ilver per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boron tri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I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V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37080" y="1197000"/>
            <a:ext cx="298764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N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gCl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Cl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(CN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(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BCC88-B408-4090-BCBA-69113F5F842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360" y="2205000"/>
            <a:ext cx="4881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CEB78-3B83-4076-BC57-9941462A044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688560" y="1430280"/>
            <a:ext cx="728280" cy="816840"/>
            <a:chOff x="3688560" y="1430280"/>
            <a:chExt cx="728280" cy="816840"/>
          </a:xfrm>
        </p:grpSpPr>
        <p:sp>
          <p:nvSpPr>
            <p:cNvPr id="129" name=""/>
            <p:cNvSpPr/>
            <p:nvPr/>
          </p:nvSpPr>
          <p:spPr>
            <a:xfrm>
              <a:off x="3967920" y="1503360"/>
              <a:ext cx="44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88560" y="1430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28520" y="1787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956240" y="2529000"/>
            <a:ext cx="4671360" cy="751680"/>
            <a:chOff x="1956240" y="2529000"/>
            <a:chExt cx="4671360" cy="751680"/>
          </a:xfrm>
        </p:grpSpPr>
        <p:grpSp>
          <p:nvGrpSpPr>
            <p:cNvPr id="133" name=""/>
            <p:cNvGrpSpPr/>
            <p:nvPr/>
          </p:nvGrpSpPr>
          <p:grpSpPr>
            <a:xfrm>
              <a:off x="1956240" y="2529000"/>
              <a:ext cx="718560" cy="751680"/>
              <a:chOff x="1956240" y="2529000"/>
              <a:chExt cx="718560" cy="751680"/>
            </a:xfrm>
          </p:grpSpPr>
          <p:sp>
            <p:nvSpPr>
              <p:cNvPr id="134" name=""/>
              <p:cNvSpPr/>
              <p:nvPr/>
            </p:nvSpPr>
            <p:spPr>
              <a:xfrm>
                <a:off x="2155680" y="2603520"/>
                <a:ext cx="51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5624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5624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299400" y="2529000"/>
              <a:ext cx="1481400" cy="751680"/>
              <a:chOff x="3299400" y="2529000"/>
              <a:chExt cx="1481400" cy="751680"/>
            </a:xfrm>
          </p:grpSpPr>
          <p:sp>
            <p:nvSpPr>
              <p:cNvPr id="138" name=""/>
              <p:cNvSpPr/>
              <p:nvPr/>
            </p:nvSpPr>
            <p:spPr>
              <a:xfrm>
                <a:off x="3534840" y="2602080"/>
                <a:ext cx="124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238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994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194800" y="2529000"/>
              <a:ext cx="1432800" cy="751680"/>
              <a:chOff x="5194800" y="2529000"/>
              <a:chExt cx="1432800" cy="751680"/>
            </a:xfrm>
          </p:grpSpPr>
          <p:sp>
            <p:nvSpPr>
              <p:cNvPr id="142" name=""/>
              <p:cNvSpPr/>
              <p:nvPr/>
            </p:nvSpPr>
            <p:spPr>
              <a:xfrm>
                <a:off x="5460840" y="2602080"/>
                <a:ext cx="1166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192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948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434320" y="3564000"/>
            <a:ext cx="3139200" cy="751680"/>
            <a:chOff x="2434320" y="3564000"/>
            <a:chExt cx="3139200" cy="751680"/>
          </a:xfrm>
        </p:grpSpPr>
        <p:grpSp>
          <p:nvGrpSpPr>
            <p:cNvPr id="146" name=""/>
            <p:cNvGrpSpPr/>
            <p:nvPr/>
          </p:nvGrpSpPr>
          <p:grpSpPr>
            <a:xfrm>
              <a:off x="2434320" y="3564000"/>
              <a:ext cx="1104120" cy="751680"/>
              <a:chOff x="2434320" y="3564000"/>
              <a:chExt cx="1104120" cy="751680"/>
            </a:xfrm>
          </p:grpSpPr>
          <p:sp>
            <p:nvSpPr>
              <p:cNvPr id="147" name=""/>
              <p:cNvSpPr/>
              <p:nvPr/>
            </p:nvSpPr>
            <p:spPr>
              <a:xfrm>
                <a:off x="302400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3432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59344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69400" y="3564000"/>
              <a:ext cx="1104120" cy="751680"/>
              <a:chOff x="4469400" y="3564000"/>
              <a:chExt cx="1104120" cy="751680"/>
            </a:xfrm>
          </p:grpSpPr>
          <p:sp>
            <p:nvSpPr>
              <p:cNvPr id="151" name=""/>
              <p:cNvSpPr/>
              <p:nvPr/>
            </p:nvSpPr>
            <p:spPr>
              <a:xfrm>
                <a:off x="505908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6940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2852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467360" y="1413000"/>
            <a:ext cx="2241000" cy="398880"/>
            <a:chOff x="1467360" y="1413000"/>
            <a:chExt cx="2241000" cy="398880"/>
          </a:xfrm>
        </p:grpSpPr>
        <p:sp>
          <p:nvSpPr>
            <p:cNvPr id="155" name=""/>
            <p:cNvSpPr/>
            <p:nvPr/>
          </p:nvSpPr>
          <p:spPr>
            <a:xfrm>
              <a:off x="1467360" y="1413000"/>
              <a:ext cx="192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74840" y="162216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21200" y="1809720"/>
            <a:ext cx="2386800" cy="398880"/>
            <a:chOff x="1321200" y="1809720"/>
            <a:chExt cx="2386800" cy="398880"/>
          </a:xfrm>
        </p:grpSpPr>
        <p:sp>
          <p:nvSpPr>
            <p:cNvPr id="158" name=""/>
            <p:cNvSpPr/>
            <p:nvPr/>
          </p:nvSpPr>
          <p:spPr>
            <a:xfrm>
              <a:off x="1321200" y="1809720"/>
              <a:ext cx="21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Atomic Numb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74840" y="202068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06400" y="1639800"/>
            <a:ext cx="2596680" cy="398880"/>
            <a:chOff x="4406400" y="1639800"/>
            <a:chExt cx="2596680" cy="398880"/>
          </a:xfrm>
        </p:grpSpPr>
        <p:sp>
          <p:nvSpPr>
            <p:cNvPr id="161" name=""/>
            <p:cNvSpPr/>
            <p:nvPr/>
          </p:nvSpPr>
          <p:spPr>
            <a:xfrm>
              <a:off x="4893120" y="1639800"/>
              <a:ext cx="21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06400" y="183672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7A344-09A3-471D-9970-D1F1A7DF5A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692280"/>
            <a:ext cx="838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top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atoms of the same element (X) with different numbers of neutrons in their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43280" y="2276640"/>
            <a:ext cx="7200720" cy="3287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16000" y="3274920"/>
            <a:ext cx="24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Isotopes of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5229360"/>
            <a:ext cx="630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1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0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ACAD2-C73D-400E-96D9-E1EA6DE765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8:57Z</dcterms:modified>
  <cp:revision>206</cp:revision>
  <dc:subject/>
  <dc:title>General Chemistry CHEM 110</dc:title>
</cp:coreProperties>
</file>